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76C-ECE2-4C00-B177-F37595B6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FE6-0F1C-40CB-82C0-E4FFE529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6F6-4CB0-4B1C-A069-0E9C2DDF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251-FBAE-47BF-A5C3-9BA62493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82F-8EFF-4576-AD42-5529AFB3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9D3-C886-454B-8E59-6ADF75E7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32E-B8B3-411E-9662-D6038917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CD9-A317-4D4D-B185-43C4762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9AC-6018-4BCB-893D-EEA7735F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A0F-E37F-49D5-B0FF-2D889CBF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60D-BDFF-4EAD-83F3-FC54622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6D3-6606-4C9C-8C7B-87463BC1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05F2-51F0-44E0-8781-62ACE2C190AF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music.ed.ac.uk/Research/imhsd/Workshop2007/images/HerstmonceuxCastle.jpg"/>
          <p:cNvPicPr/>
          <p:nvPr/>
        </p:nvPicPr>
        <p:blipFill>
          <a:blip r:embed="rId1"/>
          <a:stretch/>
        </p:blipFill>
        <p:spPr>
          <a:xfrm>
            <a:off x="615960" y="993600"/>
            <a:ext cx="7821720" cy="996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Y CASTL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. Draw flags on top of all the poles on the ro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286000"/>
            <a:ext cx="850104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ur finished so its time to colour in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the finished produ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0" r="0" b="4351"/>
          <a:stretch/>
        </p:blipFill>
        <p:spPr>
          <a:xfrm>
            <a:off x="950760" y="1600200"/>
            <a:ext cx="72424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Open Google Sketchup and make a squ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357200" y="2214720"/>
            <a:ext cx="6264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Pull the square up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Draw 2 rectangles on both sides and pull dow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rectangle for the door and pull it out, also draw a long skinny rectangle on the bottom of the base castle and pull tha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Pull out the bottom of the castle to make a bridge then pull out little rectangles off the bottom of the bri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. On the top of the castle drw a rectangle on each side and pull them uo then draw a circle in the middle and pull it 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. Do the same on the other s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 Draw two poles on the front of the cas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23:54:14Z</dcterms:created>
  <dc:creator>Diocesan School for Girls</dc:creator>
  <dc:description/>
  <dc:language>en-US</dc:language>
  <cp:lastModifiedBy>Diocesan School for Girls</cp:lastModifiedBy>
  <dcterms:modified xsi:type="dcterms:W3CDTF">2009-09-01T22:11:13Z</dcterms:modified>
  <cp:revision>10</cp:revision>
  <dc:subject/>
  <dc:title>MY CASTLE!</dc:title>
</cp:coreProperties>
</file>